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F63A-5844-4085-AF50-3B91274FA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D49-3F2E-48A2-8185-D7C624F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946-6D3D-4F5F-A224-AEDDF4D9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9292-18CA-42A2-9F06-B395B1520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A82-77F6-40DE-B939-3BA63645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17C-0277-414E-8AEF-ED384AB8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4FB-E85D-4FF2-8634-8BF3DB88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F85-A4C2-4A48-A3DD-E08B2E4D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5BA-7D30-41B9-A241-324B5ACB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B43F-2509-4A0B-985B-3D764657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842-4CB7-4648-97D6-82E4B0C8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00BF-C217-4E6E-82E0-4E47AEC8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07E1-62CB-4B00-9C7F-1B18C9D78172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AEB-AD85-4296-95B5-B5859E7106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23920" y="1413000"/>
            <a:ext cx="855036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 ходе 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Программы по созданию и примене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межгосударственных стандартных образ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состава и свойств веществ и матери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на 2011 – 2015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gradFill rotWithShape="0">
            <a:gsLst>
              <a:gs pos="0">
                <a:srgbClr val="021c88"/>
              </a:gs>
              <a:gs pos="100000">
                <a:srgbClr val="008e9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3"/>
          <p:cNvSpPr/>
          <p:nvPr/>
        </p:nvSpPr>
        <p:spPr>
          <a:xfrm>
            <a:off x="250920" y="260280"/>
            <a:ext cx="84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нформация о СО, разработанных по Програм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оторые будут представлены для рассмотрения возмож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их признания в качестве МСО на 42‑е заседание НТК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187280" y="3141720"/>
          <a:ext cx="6624720" cy="2419200"/>
        </p:xfrm>
        <a:graphic>
          <a:graphicData uri="http://schemas.openxmlformats.org/drawingml/2006/table">
            <a:tbl>
              <a:tblPr/>
              <a:tblGrid>
                <a:gridCol w="432000"/>
                <a:gridCol w="1089000"/>
                <a:gridCol w="2639880"/>
                <a:gridCol w="2463840"/>
              </a:tblGrid>
              <a:tr h="426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№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Позиция Программ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омер по националь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еестру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Наименование С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0280">
                <a:tc gridSpan="4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Российская Федерация, разработчик – ФГУП «ВНИИМС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19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ГСО 9574-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СО дифракционных свойств кристаллической решет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гексаборид лантана)  ПРФ-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Прямоугольник 4"/>
          <p:cNvSpPr/>
          <p:nvPr/>
        </p:nvSpPr>
        <p:spPr>
          <a:xfrm>
            <a:off x="900000" y="1413000"/>
            <a:ext cx="691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За период, прошедший после 47-го заседания МГС, в рамках Программы по созданию и применению межгосударственных стандартных образцов состава и свойств веществ и материалов на 2011–2015 годы  специалистами  Российской  Федерации представлен 1 тип национального СО для рассмотрения возможности признания в качестве МСО на 42-е заседание НТКМет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50920" y="692280"/>
            <a:ext cx="878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Общая информация по реал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Программы по созданию и применению межгосударственных стандартных образцов состава и свойств веществ и материалов на 2011–2015 г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5"/>
          <p:cNvSpPr/>
          <p:nvPr/>
        </p:nvSpPr>
        <p:spPr>
          <a:xfrm>
            <a:off x="611280" y="5445000"/>
            <a:ext cx="8231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Разработано 88 типов национальных С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реди них Республика Казахстан – 5 типов, Россия – 76 типов,  Украина – 7 тип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Object 66"/>
          <p:cNvGraphicFramePr/>
          <p:nvPr/>
        </p:nvGraphicFramePr>
        <p:xfrm>
          <a:off x="1187280" y="2133720"/>
          <a:ext cx="6045480" cy="30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6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045480" cy="30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"/>
          <p:cNvSpPr/>
          <p:nvPr/>
        </p:nvSpPr>
        <p:spPr>
          <a:xfrm>
            <a:off x="179280" y="2565360"/>
            <a:ext cx="84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Общие сведения о результатах выполнения Програм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приведены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Объект 1"/>
          <p:cNvGraphicFramePr/>
          <p:nvPr/>
        </p:nvGraphicFramePr>
        <p:xfrm>
          <a:off x="755640" y="3500280"/>
          <a:ext cx="8037360" cy="24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Объект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3500280"/>
                    <a:ext cx="803736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Прямоугольник 3"/>
          <p:cNvSpPr/>
          <p:nvPr/>
        </p:nvSpPr>
        <p:spPr>
          <a:xfrm>
            <a:off x="179280" y="635040"/>
            <a:ext cx="870444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аботы по ряду других позиций продолжаются со сроком исполнения 2015 год, по ряду позиций сроки исполнения перенесены в проект Программы на 2016-2020 годы, по некоторым позициям авторы сообщили о невозможности их исполнения по тем или иным причинам. Среди причин можно назвать отсутствие финансирования, отсутствие спроса, недостаточное количество участников аттестационных </a:t>
            </a: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анализов и п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04:52:37Z</dcterms:created>
  <dc:creator>Илья</dc:creator>
  <dc:description/>
  <dc:language>en-US</dc:language>
  <cp:lastModifiedBy>user</cp:lastModifiedBy>
  <dcterms:modified xsi:type="dcterms:W3CDTF">2015-10-26T06:26:10Z</dcterms:modified>
  <cp:revision>781</cp:revision>
  <dc:subject/>
  <dc:title>Слайд 1</dc:title>
</cp:coreProperties>
</file>